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2.wmf" ContentType="image/x-wmf"/>
  <Override PartName="/ppt/media/image13.wmf" ContentType="image/x-wmf"/>
  <Override PartName="/ppt/media/image8.wmf" ContentType="image/x-wmf"/>
  <Override PartName="/ppt/media/image10.wmf" ContentType="image/x-wmf"/>
  <Override PartName="/ppt/media/image4.jpeg" ContentType="image/jpeg"/>
  <Override PartName="/ppt/media/image2.png" ContentType="image/png"/>
  <Override PartName="/ppt/media/image7.jpeg" ContentType="image/jpeg"/>
  <Override PartName="/ppt/media/image11.wmf" ContentType="image/x-wmf"/>
  <Override PartName="/ppt/media/image6.wmf" ContentType="image/x-wmf"/>
  <Override PartName="/ppt/media/image9.wmf" ContentType="image/x-wmf"/>
  <Override PartName="/ppt/media/image23.wmf" ContentType="image/x-wmf"/>
  <Override PartName="/ppt/media/image22.wmf" ContentType="image/x-wmf"/>
  <Override PartName="/ppt/media/image18.jpeg" ContentType="image/jpeg"/>
  <Override PartName="/ppt/media/image21.wmf" ContentType="image/x-wmf"/>
  <Override PartName="/ppt/media/image19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3.jpeg" ContentType="image/jpeg"/>
  <Override PartName="/ppt/media/image5.jpeg" ContentType="image/jpeg"/>
  <Override PartName="/ppt/media/image20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2FB39-050E-4FEF-BC69-4158284D4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030A6-0AFF-4405-A648-3AF3F2D06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2C314-759B-4CA0-B425-4A5B30A1B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65647-1123-437D-B49C-FC7FE9A81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DBFC7-F189-4BC4-B5A5-D34D050E3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34476-CEDB-4D6E-B778-C212DAFC4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6A8BE-8F64-436C-BBD2-AFAB96660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A4F81-6FFC-4DC5-A202-93E2A7025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3F955-87AE-40C0-B44A-FC1801AF5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F9D6E-0D8D-4B10-BC1A-66194DB44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923D3-0C72-48A1-B7BB-2876DA261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C7264-FABF-4069-A65B-B611CEF04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7D41F-BC55-43DA-AFE0-2D78C27C9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C21AF-C563-413B-A27B-DE8317EDA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3C5B9-D22F-4F0B-B709-A8F97078E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0CE50-02D8-4C80-BA42-891B1441D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1CB44-7375-4534-A463-43E7789BB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BAB1B1-6546-4FDC-BB0C-D57E28E8A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48D93E-8852-4F89-AE84-3E30AEA1A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6C5AEC-87F8-4475-9215-355AED652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1C81B7-6C18-43C7-9B4B-3D601EBB5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11013D-4E53-4866-BECE-FF33F9221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F5A2D-BBB1-458B-950F-E0EE3FEE0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E80E0F-BCDF-4462-8D55-C0BB5B4CA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F1BE7F-1104-40BE-A1C3-534ED9F57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609524-4029-43DC-BD9E-2F740C710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17E840-E83C-49C3-BF44-643E5BE57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AF9765-ABBE-497A-87C8-7F4B20CB7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DDBACB-153C-453C-B7C1-9C725555E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61C00B-63E1-441F-8467-2BF4F1710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A2094-18D8-4306-A920-0BBCE6EF7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39CBF-BCCA-4EF4-946D-0C70521CA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C34DE-74C0-4B1C-A292-29FC86443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77109-0A1F-4617-86E0-0E551CCA7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CB750-9258-40C8-920B-7B97F6FAC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2D686-B7E9-4E97-B64D-DBDAA62DF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C7596-7BC5-42AB-B439-D631029E0EEC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3B54B-6B15-4B90-8F5C-5487361508AB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CCEDA-B6CB-43D3-ADC6-3C4AB1DA66F1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3.wmf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08000" y="1844640"/>
            <a:ext cx="676944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600" spc="-1" strike="noStrike">
                <a:solidFill>
                  <a:srgbClr val="000000"/>
                </a:solidFill>
                <a:latin typeface="Century Gothic"/>
              </a:rPr>
              <a:t>Posibilidades de Desarrollo del Sector Algodoner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2268360" y="3645000"/>
            <a:ext cx="5796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Century Gothic"/>
              </a:rPr>
              <a:t>Fernando Cillóni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E" sz="1800" spc="-1" strike="noStrike">
                <a:solidFill>
                  <a:srgbClr val="000000"/>
                </a:solidFill>
                <a:latin typeface="Times New Roman"/>
              </a:rPr>
              <a:t>inform</a:t>
            </a:r>
            <a:r>
              <a:rPr b="1" i="1" lang="es-PE" sz="1800" spc="-1" strike="noStrike">
                <a:solidFill>
                  <a:srgbClr val="ff3300"/>
                </a:solidFill>
                <a:latin typeface="Times New Roman"/>
              </a:rPr>
              <a:t>@</a:t>
            </a:r>
            <a:r>
              <a:rPr b="1" i="1" lang="es-PE" sz="1800" spc="-1" strike="noStrike">
                <a:solidFill>
                  <a:srgbClr val="000000"/>
                </a:solidFill>
                <a:latin typeface="Times New Roman"/>
              </a:rPr>
              <a:t>c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65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265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134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Grandes Exportadores</a:t>
            </a:r>
            <a:br>
              <a:rPr sz="1500"/>
            </a:b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Cantidades en millones de TM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0" y="1135080"/>
          <a:ext cx="9085320" cy="5398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135080"/>
                    <a:ext cx="9085320" cy="53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00000" y="115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recios FOB Desmotadora</a:t>
            </a:r>
            <a:br>
              <a:rPr sz="2600"/>
            </a:b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US$ por QQ Fibra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0" y="1225440"/>
          <a:ext cx="9144000" cy="5245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225440"/>
                    <a:ext cx="9144000" cy="524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900" spc="-1" strike="noStrike">
                <a:solidFill>
                  <a:srgbClr val="000000"/>
                </a:solidFill>
                <a:latin typeface="Verdana"/>
              </a:rPr>
              <a:t>Importación de Algodón en Valores </a:t>
            </a:r>
            <a:br>
              <a:rPr sz="1900"/>
            </a:br>
            <a:r>
              <a:rPr b="1" lang="es-ES" sz="1900" spc="-1" strike="noStrike">
                <a:solidFill>
                  <a:srgbClr val="000000"/>
                </a:solidFill>
                <a:latin typeface="Verdana"/>
              </a:rPr>
              <a:t>(Millones de US$ CIF)</a:t>
            </a:r>
            <a:br>
              <a:rPr sz="1900"/>
            </a:br>
            <a:r>
              <a:rPr b="1" lang="es-ES" sz="1900" spc="-1" strike="noStrike">
                <a:solidFill>
                  <a:srgbClr val="000000"/>
                </a:solidFill>
                <a:latin typeface="Verdana"/>
              </a:rPr>
              <a:t>2000-2004*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133200" y="1461960"/>
          <a:ext cx="8907480" cy="4745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3200" y="1461960"/>
                    <a:ext cx="8907480" cy="474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"/>
          <p:cNvSpPr/>
          <p:nvPr/>
        </p:nvSpPr>
        <p:spPr>
          <a:xfrm>
            <a:off x="735120" y="63244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-35640" y="6173640"/>
            <a:ext cx="2171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(*)Datos al mes de agos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Fuente: Aduan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Elaboración: inform</a:t>
            </a:r>
            <a:r>
              <a:rPr b="1" lang="es-ES_tradnl" sz="1200" spc="-1" strike="noStrike">
                <a:solidFill>
                  <a:srgbClr val="ff0000"/>
                </a:solidFill>
                <a:latin typeface="Arial"/>
              </a:rPr>
              <a:t>@</a:t>
            </a: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c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7632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Volúmenes Importados de Algodón (Miles de TM) </a:t>
            </a:r>
            <a:br>
              <a:rPr sz="2100"/>
            </a:b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2000-2004*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250920" y="1492200"/>
          <a:ext cx="8672400" cy="4713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0920" y="1492200"/>
                    <a:ext cx="8672400" cy="471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5" name=""/>
          <p:cNvSpPr/>
          <p:nvPr/>
        </p:nvSpPr>
        <p:spPr>
          <a:xfrm>
            <a:off x="735120" y="63244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-35640" y="6173640"/>
            <a:ext cx="2171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(*)Datos al mes de agos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Fuente: Aduan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Elaboración: inform</a:t>
            </a:r>
            <a:r>
              <a:rPr b="1" lang="es-ES_tradnl" sz="1200" spc="-1" strike="noStrike">
                <a:solidFill>
                  <a:srgbClr val="ff0000"/>
                </a:solidFill>
                <a:latin typeface="Arial"/>
              </a:rPr>
              <a:t>@</a:t>
            </a: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c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800" spc="-1" strike="noStrike">
                <a:solidFill>
                  <a:srgbClr val="000000"/>
                </a:solidFill>
                <a:latin typeface="Verdana"/>
              </a:rPr>
              <a:t>Comparación Perú vs. Brasil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68000" y="184428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ctr">
              <a:lnSpc>
                <a:spcPct val="15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000" spc="-1" strike="noStrike">
                <a:solidFill>
                  <a:srgbClr val="000000"/>
                </a:solidFill>
                <a:latin typeface="Verdana"/>
              </a:rPr>
              <a:t>Productividad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lnSpc>
                <a:spcPct val="15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000" spc="-1" strike="noStrike">
                <a:solidFill>
                  <a:srgbClr val="000000"/>
                </a:solidFill>
                <a:latin typeface="Verdana"/>
              </a:rPr>
              <a:t>Costo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lnSpc>
                <a:spcPct val="15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000" spc="-1" strike="noStrike">
                <a:solidFill>
                  <a:srgbClr val="000000"/>
                </a:solidFill>
                <a:latin typeface="Verdana"/>
              </a:rPr>
              <a:t>Calidad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Resultado Perú vs. Brasil</a:t>
            </a:r>
            <a:br>
              <a:rPr sz="3400"/>
            </a:b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Datos en kilos y US$ por Ha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204840" y="1268280"/>
          <a:ext cx="8759880" cy="5321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04840" y="1268280"/>
                    <a:ext cx="8759880" cy="532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nitarios Perú vs. Brasil</a:t>
            </a:r>
            <a:br>
              <a:rPr sz="3000"/>
            </a:b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Producción en QQ Fibra, Valores en US$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117360" y="1212840"/>
          <a:ext cx="8893440" cy="5456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7360" y="1212840"/>
                    <a:ext cx="8893440" cy="545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racterísticas del Negocio Algodonero en el Perú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047600" y="1484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2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ultivado por pequeños agricultor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ecnología baj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vestigación en recuperació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lexibilizado uso de genética extranjer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alidad de fibra buen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recios del mercado reconocen calid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1116000" y="404640"/>
            <a:ext cx="7772400" cy="533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2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recios internos afectados por subsidio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ultivo sensible sin corrección de distorsiones en el Perú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roducción nacional con tendencia negativ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emanda local en crecimiento por exportaciones de confeccion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mportaciones en crecimient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otencial para incrementar área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4360" y="83628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ueva experiencia en el negocio del algodó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15640" y="2131560"/>
            <a:ext cx="7010280" cy="27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yecto basado en algodó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 la Región Lambayequ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Zona de Jayanc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9280" y="52200"/>
            <a:ext cx="8001000" cy="121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800" spc="-1" strike="noStrike">
                <a:solidFill>
                  <a:srgbClr val="000000"/>
                </a:solidFill>
                <a:latin typeface="Verdana"/>
              </a:rPr>
              <a:t>Índic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000" spc="-1" strike="noStrike">
                <a:solidFill>
                  <a:srgbClr val="000000"/>
                </a:solidFill>
                <a:latin typeface="Verdana"/>
              </a:rPr>
              <a:t>El algodón en el mund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Verdana"/>
              </a:rPr>
              <a:t>Principales productor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Verdana"/>
              </a:rPr>
              <a:t>Principales consumidor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Verdana"/>
              </a:rPr>
              <a:t>Principales exportador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000" spc="-1" strike="noStrike">
                <a:solidFill>
                  <a:srgbClr val="000000"/>
                </a:solidFill>
                <a:latin typeface="Verdana"/>
              </a:rPr>
              <a:t>Precio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000" spc="-1" strike="noStrike">
                <a:solidFill>
                  <a:srgbClr val="000000"/>
                </a:solidFill>
                <a:latin typeface="Verdana"/>
              </a:rPr>
              <a:t>Referencia Brasi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000" spc="-1" strike="noStrike">
                <a:solidFill>
                  <a:srgbClr val="000000"/>
                </a:solidFill>
                <a:latin typeface="Verdana"/>
              </a:rPr>
              <a:t>Experiencia algodonera Lambayequ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bjetivo/Premisa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755280" y="1267920"/>
            <a:ext cx="7993080" cy="39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7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ibra extra larga: Pima o equivalente como Híbrid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7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roductividad mínima 80 qq en rama por h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7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eríodo vegetativo 180 días campo limpi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7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osibilidad de cultivo complementari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1142640" y="134136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2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Alta tecnologí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2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Riego 100% bombeo aceptabl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2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Área ideal 500 has o má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77724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ccion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755640" y="466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5540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lnSpc>
                <a:spcPct val="15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úsqueda de inversionista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lnSpc>
                <a:spcPct val="15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mpra de tierra en subasta Proinversió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80560" indent="-423000">
              <a:lnSpc>
                <a:spcPct val="15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1,200 has ex Plan Piloto Olmo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80560" indent="-423000">
              <a:lnSpc>
                <a:spcPct val="15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ozos perforados 20, 1,000 lt/seg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80560" indent="-423000">
              <a:lnSpc>
                <a:spcPct val="15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uena pro Dic 2001, entrega Ene 2002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lnSpc>
                <a:spcPct val="15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curso suministro de riego por gote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899640" y="54900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64760" indent="-464760">
              <a:lnSpc>
                <a:spcPct val="14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Instalación red eléctric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14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Desbos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14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Siembra 150 has Feb 2003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14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Siembra 300 has Feb 200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14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Lambaye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lnSpc>
                <a:spcPct val="14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Pima Hazera:</a:t>
            </a: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1,400 ha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lnSpc>
                <a:spcPct val="14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Del Cerro:</a:t>
            </a: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   800 ha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14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2195640" y="498708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7" name=""/>
          <p:cNvGraphicFramePr/>
          <p:nvPr/>
        </p:nvGraphicFramePr>
        <p:xfrm>
          <a:off x="250920" y="811080"/>
          <a:ext cx="8789760" cy="5662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0920" y="811080"/>
                    <a:ext cx="8789760" cy="566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9" name=""/>
          <p:cNvSpPr/>
          <p:nvPr/>
        </p:nvSpPr>
        <p:spPr>
          <a:xfrm>
            <a:off x="2972160" y="157320"/>
            <a:ext cx="332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Arial"/>
              </a:rPr>
              <a:t>Resultados por H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0" name=""/>
          <p:cNvGraphicFramePr/>
          <p:nvPr/>
        </p:nvGraphicFramePr>
        <p:xfrm>
          <a:off x="133200" y="781200"/>
          <a:ext cx="8863200" cy="5692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3200" y="781200"/>
                    <a:ext cx="8863200" cy="569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/>
          <p:cNvSpPr/>
          <p:nvPr/>
        </p:nvSpPr>
        <p:spPr>
          <a:xfrm>
            <a:off x="539640" y="189000"/>
            <a:ext cx="82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Arial"/>
              </a:rPr>
              <a:t>Resultados por Un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000" spc="-1" strike="noStrike">
                <a:solidFill>
                  <a:srgbClr val="000000"/>
                </a:solidFill>
                <a:latin typeface="Verdana"/>
              </a:rPr>
              <a:t>Calidad de Fibr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281160" y="1062000"/>
          <a:ext cx="8699400" cy="5338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81160" y="1062000"/>
                    <a:ext cx="8699400" cy="533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3000" y="189000"/>
            <a:ext cx="80010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800" spc="-1" strike="noStrike">
                <a:solidFill>
                  <a:srgbClr val="000000"/>
                </a:solidFill>
                <a:latin typeface="Verdana"/>
              </a:rPr>
              <a:t>Conclusion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4360" y="1197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1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Algodón: buena alternativa para agro nacional por mercado y áreas extensas. Costa y Selva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1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Producción nacional de fibra extra larga es fundamental para competitividad de cadena textil y confecciones; somos deficitarios, somos competitivo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1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Tendencia estratégica de producción hacia fibras extra largas. Tienen menos distorsiones y tenemos mejores ventajas competitivas, inclusive para exportar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687240" y="404640"/>
            <a:ext cx="77724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4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Mercado reconoce calidad y se manifiesta en el precio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4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El algodón responde bien al uso de alta tecnología, inclusive a la relativa alta inversión de riego por goteo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4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Promover y facilitar acceso y uso de tecnología genética mas moderna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4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Modernizar la reglamentación del cultivo y de la producción e importación de semilla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4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000" spc="-1" strike="noStrike">
                <a:solidFill>
                  <a:srgbClr val="000000"/>
                </a:solidFill>
                <a:latin typeface="Verdana"/>
              </a:rPr>
              <a:t>Reflexion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755640" y="112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ctr">
              <a:lnSpc>
                <a:spcPct val="15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lnSpc>
                <a:spcPct val="150000"/>
              </a:lnSpc>
              <a:spcBef>
                <a:spcPts val="67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700" spc="-1" strike="noStrike">
                <a:solidFill>
                  <a:srgbClr val="000000"/>
                </a:solidFill>
                <a:latin typeface="Verdana"/>
              </a:rPr>
              <a:t>El desarrollo del agro necesita de todos los cultivos y productos que tengan mercado y seamos competitivos, …corrigiendo distorsiones.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0320" y="260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Mercado Mundial</a:t>
            </a:r>
            <a:br>
              <a:rPr sz="3400"/>
            </a:b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En Millones de TM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108000" y="1386000"/>
          <a:ext cx="8856720" cy="4984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386000"/>
                    <a:ext cx="8856720" cy="498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755640" y="1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ctr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lnSpc>
                <a:spcPct val="17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000000"/>
                </a:solidFill>
                <a:latin typeface="Verdana"/>
              </a:rPr>
              <a:t>Después de años de distanciamiento entre subsectores del agro, se esta gestando la unión entre los agricultores y los eslabones siguientes de las cadena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539280" y="836280"/>
            <a:ext cx="8209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ctr">
              <a:lnSpc>
                <a:spcPct val="16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Verdana"/>
              </a:rPr>
              <a:t>Se esta logrando, finalmente, la unidad en el agro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lnSpc>
                <a:spcPct val="16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Verdana"/>
              </a:rPr>
              <a:t>Se esta logrando que el agro unido recupere su espacio en todas las esferas: Gobierno, negociaciones internacionale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539280" y="1466640"/>
            <a:ext cx="8209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Verdana"/>
              </a:rPr>
              <a:t>¿Por qué no se ha desarrollado más el sector algodonero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Verdana"/>
              </a:rPr>
              <a:t>¿Cuál es el diagnóstico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"/>
          <p:cNvSpPr/>
          <p:nvPr/>
        </p:nvSpPr>
        <p:spPr>
          <a:xfrm>
            <a:off x="1420200" y="549360"/>
            <a:ext cx="598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000000"/>
                </a:solidFill>
                <a:latin typeface="Verdana"/>
              </a:rPr>
              <a:t>Preguntas Patricia Teullet - COME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539280" y="475920"/>
            <a:ext cx="8209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6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Verdana"/>
              </a:rPr>
              <a:t>¿Es posible recuperar el cultivo de algodón en el Perú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539280" y="475920"/>
            <a:ext cx="8209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6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Verdana"/>
              </a:rPr>
              <a:t>¿Somos competitivos en la producción de algodón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6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Verdana"/>
              </a:rPr>
              <a:t>¿Cuál es nuestro rendimiento y cuál es nuestro costo de producción por hectárea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6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Verdana"/>
              </a:rPr>
              <a:t>¿Cómo se compara esto internacionalmente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539280" y="475920"/>
            <a:ext cx="8209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Verdana"/>
              </a:rPr>
              <a:t>Si se decidiera promover el cultivo de algodón,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6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Verdana"/>
              </a:rPr>
              <a:t>¿Cuáles son los mecanismos para hacerlo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6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Verdana"/>
              </a:rPr>
              <a:t>¿Qué tipo de cultivos se debe promover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539280" y="475920"/>
            <a:ext cx="8209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6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Verdana"/>
              </a:rPr>
              <a:t>¿Entre las medidas a adoptar, existe algún tipo de restricción a la importación (aranceles o sobretasas)? Si fuera así. ¿Cómo afecta esto las posibilidades de desarrollo de la industria textil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539280" y="476280"/>
            <a:ext cx="8209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21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0000"/>
                </a:solidFill>
                <a:latin typeface="Verdana"/>
              </a:rPr>
              <a:t>¿Se puede equilibrar el desarrollo del sector algodonero con el de la industria de textiles y confecciones?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21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0000"/>
                </a:solidFill>
                <a:latin typeface="Verdana"/>
              </a:rPr>
              <a:t>¿Es cierto que el sector textil, para ser competitivo internacionalmente, necesita algodón muy barato y, por tanto, comprarlo subsidiado constituye una ventaja necesario para poder colocar sus productos en el exterior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3" name=""/>
          <p:cNvGraphicFramePr/>
          <p:nvPr/>
        </p:nvGraphicFramePr>
        <p:xfrm>
          <a:off x="250920" y="1268280"/>
          <a:ext cx="8731080" cy="50738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0920" y="1268280"/>
                    <a:ext cx="8731080" cy="507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"/>
          <p:cNvSpPr/>
          <p:nvPr/>
        </p:nvSpPr>
        <p:spPr>
          <a:xfrm>
            <a:off x="2010600" y="692280"/>
            <a:ext cx="5149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Producción Mundial de Algodó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6" name=""/>
          <p:cNvGraphicFramePr/>
          <p:nvPr/>
        </p:nvGraphicFramePr>
        <p:xfrm>
          <a:off x="117360" y="1619280"/>
          <a:ext cx="8923320" cy="47624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7360" y="1619280"/>
                    <a:ext cx="8923320" cy="476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8" name=""/>
          <p:cNvSpPr/>
          <p:nvPr/>
        </p:nvSpPr>
        <p:spPr>
          <a:xfrm>
            <a:off x="2212200" y="368280"/>
            <a:ext cx="4608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Verdana"/>
              </a:rPr>
              <a:t>Participación del Perú e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PE" sz="2600" spc="-1" strike="noStrike">
                <a:solidFill>
                  <a:srgbClr val="000000"/>
                </a:solidFill>
                <a:latin typeface="Verdana"/>
              </a:rPr>
              <a:t>Fibras Largas y Extra Larga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-17172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hina</a:t>
            </a:r>
            <a:br>
              <a:rPr sz="3400"/>
            </a:b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En Millones de TM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0" y="914400"/>
          <a:ext cx="9158400" cy="5767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914400"/>
                    <a:ext cx="9158400" cy="576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48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Estados Unidos</a:t>
            </a:r>
            <a:br>
              <a:rPr sz="3400"/>
            </a:b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En Millones de TM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0" y="987480"/>
          <a:ext cx="9158400" cy="5605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987480"/>
                    <a:ext cx="9158400" cy="560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03240" y="430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Grandes Productores</a:t>
            </a:r>
            <a:br>
              <a:rPr sz="3000"/>
            </a:b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En millones de TM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0" y="1031760"/>
          <a:ext cx="9040680" cy="5545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031760"/>
                    <a:ext cx="9040680" cy="554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603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Grandes Consumidores</a:t>
            </a:r>
            <a:br>
              <a:rPr sz="3000"/>
            </a:b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En Millones de TM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58680" y="841320"/>
          <a:ext cx="8952120" cy="5840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8680" y="841320"/>
                    <a:ext cx="8952120" cy="584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04T02:39:57Z</dcterms:created>
  <dc:creator>ACilloniz</dc:creator>
  <dc:description/>
  <dc:language>en-US</dc:language>
  <cp:lastModifiedBy>PCLARCE</cp:lastModifiedBy>
  <dcterms:modified xsi:type="dcterms:W3CDTF">2004-09-30T22:56:41Z</dcterms:modified>
  <cp:revision>115</cp:revision>
  <dc:subject/>
  <dc:title>Mercado Mundial</dc:title>
</cp:coreProperties>
</file>